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D49-6E92-4A14-BC2F-70CDB619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D0B-773B-484D-BA95-DDEF0276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FF3-D67D-43ED-919B-7132AC9C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141-9A1D-4B3E-AFC8-21CE5ECD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340-D28F-49D4-8983-8A8E1E4E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EF4-DBD3-4D71-B430-23B5A3AE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AE9-6BCB-42B4-A093-408FC88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6E1-82FC-4800-806E-DC483AB3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290-5B11-4337-9D06-BF7A74ED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5EF-42B4-425F-9A3E-16F522FA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149-40F5-432F-820F-25DEB65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A2F-D59A-4480-BD47-282E0A9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F67F-374C-45B9-9F46-EEA9AF3964B7}" type="slidenum">
              <a:rPr b="0" lang="es-C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mpetencias del siglo XX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898989"/>
                </a:solidFill>
                <a:latin typeface="Arial"/>
                <a:ea typeface="Arial"/>
              </a:rPr>
              <a:t>Habilid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r>
              <a:rPr b="0" lang="es-CR" sz="3200" spc="-1" strike="noStrike">
                <a:solidFill>
                  <a:srgbClr val="898989"/>
                </a:solidFill>
                <a:latin typeface="Arial"/>
                <a:ea typeface="Arial"/>
              </a:rPr>
              <a:t>Pensamiento crí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Arial"/>
                <a:ea typeface="Arial"/>
              </a:rPr>
              <a:t>The International Critical thinking Reading  and Writing Te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  <a:ea typeface="Arial"/>
              </a:rPr>
              <a:t>El propósito de estas pruebas es evaluar la habilidad de los estudiantes de pensar de una manera disciplinada y hábil.  Los resultados pueden determinar hasta que punto han adquirido esta destre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000000"/>
                </a:solidFill>
                <a:latin typeface="Arial"/>
                <a:ea typeface="Arial"/>
              </a:rPr>
              <a:t>Productos esperados del los exámenes de lectura y escritura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Reflexion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Monitorean cómo le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Elaboran resúme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Dan ejemplos basados en sus propias experiencias o de las ideas de la lectu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Realizan conexiones entre las ideas principa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Parafrasean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Este libro  contiene ejemplos de las diferentes formas de evaluar lectura y escritura, brindan diferentes  formatos y rúbric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Criteri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En cuanto a los criterios sugeridos, este libro los complementan brindando una extensa gama de posibi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criticalthinking.org/files/ReadWritingTestOp1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ypical Standardiz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ritical Thinking” Tests Actually T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standardized critical thinking tests are testing for three or four of such concepts 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erence, induction, deduction, interpretation, analysis, synthesis, credibility, missing premises, analyzing arguments, avoiding equivocation, irrelevance, circularity, straw person, overgeneralization, excessive skepticism, etc…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reduces in some cases to a test of formal logic (deduction) or informal logic (fallacy recogn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other cases, standardized critical thinking tests reduce to tests of psychological processes (oft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ose found in Bloom’s Taxonomy), like analysis, synthesis, or evalu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test focuses on these psychological process words, there are rarely any intellectual standards being used (like clarity, accuracy, precision, relevance,…) to assess these process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tent/pdf/WhitePaperHolisticTests.pdf, August 2007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ger Benjamin, et. al. “Holistic Tests in a Sub-score World: The Diagnostic Logic of the Collegiate Learning Assessment,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cae.or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criticalthinking.org/files/White%20PaperAssessmentSept2007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19:11:16Z</dcterms:created>
  <dc:creator>Doreen</dc:creator>
  <dc:description/>
  <dc:language>en-US</dc:language>
  <cp:lastModifiedBy>Doreen</cp:lastModifiedBy>
  <dcterms:modified xsi:type="dcterms:W3CDTF">2012-08-21T20:42:17Z</dcterms:modified>
  <cp:revision>11</cp:revision>
  <dc:subject/>
  <dc:title>Evaluación de Competencias del siglo XXI</dc:title>
</cp:coreProperties>
</file>